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638-A634-42A7-8301-DB8AD4C4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829-7CF7-4C3A-B3A9-7602A42D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BA3-12D4-4A57-86B3-A62682B3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62B-CC7D-42C5-826F-6A6AFB56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40C-10BF-4EA5-99BC-4FA1EF9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991-BDBC-4A0F-9C35-CCB7A70D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A41-093D-4282-B36F-69FC60AA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3315-B4E3-4ECD-B404-4D356C9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0DC-086A-4FF6-9794-9EB62CF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53C-B81C-4EBA-9C88-F9346C3A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92A-CEC9-455F-8B47-A4CFF17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190-A938-44C3-804C-5D238383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C60-95E6-4882-B7CD-78A364F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F26E-3E1B-459A-997D-DFADD48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94F4-B8B5-4E61-ADB6-4E57D287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243-75D8-4ACD-81D7-20008BA6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E20-D038-4166-AC5F-B28D9CC0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8EB-EEFC-4F01-B5B8-A160CA96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581-DB24-48CF-ACD9-A0A82D54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DD9-46FB-47F0-ADF2-5BA3F47C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A87-B191-4F98-90FD-1BC36F7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C19-3BA4-4394-A261-B5A93C0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BF5-CB39-461B-BBBB-AD2D679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812-8690-4BE4-8E0D-BDCA7F5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791C-5841-4E8D-8B20-3AC77EEC2A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C322-3848-4A50-9132-97360A7E7D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 Molecular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914400" y="1295280"/>
            <a:ext cx="7772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ecular formula of a compound with an empirical formula of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a molecular mass of 90g/m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914400" y="2895480"/>
            <a:ext cx="41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empir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the molecular mass by the empirical mass to determine how much larger the mass of the molecule is compared to the 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e subscripts of each element in the empirical formula by the factor determined in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419720" y="2895480"/>
            <a:ext cx="4419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1(12g)+2(1g)+1(16g) = 3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" descr=""/>
          <p:cNvPicPr/>
          <p:nvPr/>
        </p:nvPicPr>
        <p:blipFill>
          <a:blip r:embed="rId1"/>
          <a:stretch/>
        </p:blipFill>
        <p:spPr>
          <a:xfrm>
            <a:off x="6010200" y="3809880"/>
            <a:ext cx="1731960" cy="957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4833720" y="5800680"/>
            <a:ext cx="206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x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x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x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7273440" y="5740560"/>
            <a:ext cx="1641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nger Molecular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62120" y="15573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molecular mass, determine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1066680" y="32767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molecular formula of a compound that has a mass of 34g and contains 94.1%  oxygen and 5.9% hydrogen by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ing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nuts"/>
          <p:cNvPicPr/>
          <p:nvPr/>
        </p:nvPicPr>
        <p:blipFill>
          <a:blip r:embed="rId1"/>
          <a:stretch/>
        </p:blipFill>
        <p:spPr>
          <a:xfrm>
            <a:off x="1033560" y="1600200"/>
            <a:ext cx="2166840" cy="164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657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OKE"/>
          <p:cNvPicPr/>
          <p:nvPr/>
        </p:nvPicPr>
        <p:blipFill>
          <a:blip r:embed="rId3"/>
          <a:stretch/>
        </p:blipFill>
        <p:spPr>
          <a:xfrm>
            <a:off x="6324480" y="1600200"/>
            <a:ext cx="2381400" cy="1847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1295280" y="39625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600200" y="483696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215280" y="4952880"/>
            <a:ext cx="8518680" cy="1008720"/>
            <a:chOff x="215280" y="4952880"/>
            <a:chExt cx="8518680" cy="1008720"/>
          </a:xfrm>
        </p:grpSpPr>
        <p:sp>
          <p:nvSpPr>
            <p:cNvPr id="104" name="Text Box 15"/>
            <p:cNvSpPr/>
            <p:nvPr/>
          </p:nvSpPr>
          <p:spPr>
            <a:xfrm>
              <a:off x="3276720" y="4952880"/>
              <a:ext cx="325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rticles Nam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215280" y="5562720"/>
              <a:ext cx="85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oms, formula units (ionic compounds), molecules (covalent compoun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3320" y="3200400"/>
            <a:ext cx="78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Composition by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1640" y="1447560"/>
            <a:ext cx="3962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product of the number of each atom and their masses divided by the total mas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insanecats.com/images/google_ball_pit.png"/>
          <p:cNvPicPr/>
          <p:nvPr/>
        </p:nvPicPr>
        <p:blipFill>
          <a:blip r:embed="rId1"/>
          <a:stretch/>
        </p:blipFill>
        <p:spPr>
          <a:xfrm>
            <a:off x="533520" y="1447920"/>
            <a:ext cx="38433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838080" y="358128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composition of Mg(B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80880" y="4343400"/>
            <a:ext cx="845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(mass Mg) + 2(mass of Br) + 8(mass of oxygen) = Mass of Mg(Br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 which contains the lowest whole number ratio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883800" y="2743200"/>
            <a:ext cx="77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c formulas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compounds do not always contain the lowest whole numbe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990720" y="3657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mpirical Formula of the following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238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9625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867280" y="44197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rmining the Empirical Formula of a Comp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empirical formula for a compound which contains 25.9% nitrogen and 74.1% oxygen by m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914400" y="3733920"/>
                <a:ext cx="3276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g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mo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4"/>
          <p:cNvSpPr/>
          <p:nvPr/>
        </p:nvSpPr>
        <p:spPr>
          <a:xfrm>
            <a:off x="457200" y="2514600"/>
            <a:ext cx="39625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Covert % to mass (if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Convert mass to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Divide each molar quantity by the lowest number of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70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ultiply by the smallest number needed to create a whole number ratio (if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2438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a 100g sample.  In that sample 25.9 g is nitrogen and 74.1g is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503040" y="1295280"/>
            <a:ext cx="123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267080" y="3733920"/>
                <a:ext cx="3041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mol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3"/>
          <p:cNvSpPr/>
          <p:nvPr/>
        </p:nvSpPr>
        <p:spPr>
          <a:xfrm>
            <a:off x="7518600" y="3886200"/>
            <a:ext cx="132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4495680" y="4648320"/>
                <a:ext cx="16765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6732000" y="4800600"/>
            <a:ext cx="98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29840" y="5867280"/>
            <a:ext cx="135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7025760" y="5791320"/>
            <a:ext cx="8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f the following are empirical formulas and which represent molecular formula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219320" y="327672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581280" y="327672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400800" y="3200400"/>
            <a:ext cx="121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1523880" y="4495680"/>
            <a:ext cx="121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3352680" y="4419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6324480" y="4419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pav</cp:lastModifiedBy>
  <dcterms:modified xsi:type="dcterms:W3CDTF">2011-04-12T11:55:06Z</dcterms:modified>
  <cp:revision>9</cp:revision>
  <dc:subject/>
  <dc:title>The Mole</dc:title>
</cp:coreProperties>
</file>